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E04-5CD6-4283-83BF-79222DD2A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7DE-35F1-435B-97C0-D4F99781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 to frere Jac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0D9-CA35-4636-84CE-B696976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7F0-27CC-4538-B88E-38B95FE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386-0477-49A1-B080-8331C5EA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11E-8042-4869-BB34-C5B2BC2F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022-82D1-4CBC-9384-CB275B75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CA0-B633-49B0-AA91-8B3266F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D226-DA3B-47B7-AD2D-3A23499B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0B7-A50D-4095-A384-04F39C28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D97D-E88A-4239-9B64-027C8EA2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D3A-8001-4958-B3A4-7F8C16B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CE74-4727-490F-BABF-41FFA13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89D-3C9A-4B0A-8B0D-9837462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4148-CAFA-4DA3-B760-2CEE8B8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22BB-4C2A-43B9-810A-6B6CCBD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1FB-D9B4-4D1E-ABA1-08D18A0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0439-4978-4AEC-AF57-48B8223D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97A7-EFD8-4A3E-BDB4-B4EF5210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AA93-A546-4ED3-BEF0-7DCAFFE0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F67A-54BC-47A8-A97C-DB0F947A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1575-3A33-4F28-BE83-1063DF9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64A3-8699-492B-8B64-998A137E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060C-02D4-4339-8C19-BE2E588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E37-8DCE-4031-802B-81F2511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BA67-EBB3-4F40-B868-45AD4995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4B2E-5D13-4B90-824C-4FFC926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4146-2A7D-4E71-B727-0A1AF03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666F-513F-414D-BEAA-3B67EEA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F731-4116-4246-BFF0-CD10C2E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4FFF-B419-4068-9FED-F769DDB4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D983-7C38-4EC0-B96F-D9EAE60E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74CC-2373-446B-A188-BEF6820F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525B-4094-4520-ACE6-02838F6D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30A2-FFAE-4112-89CE-919CFA5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BA7-F9AA-4E69-A2F7-96CF93A0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D7A6-961F-429A-B103-6FA9D3E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BF5B-74B1-4487-B652-0B2798D6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726F-540F-455F-AD9E-867CAC5E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DC88-1AA1-4996-B55E-B6CDFEA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0C7E-43BF-4DB9-986A-45EC0C2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E56C-252A-432D-85DF-56DB90D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3A7E-685C-42EE-84D7-B7E3994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66F1-F5D0-41AB-BB27-85C100AB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E271-B57A-4D69-9D8A-052F7DEE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D098-9142-4394-A2C5-B4F42FF5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A80-E9F4-4595-A035-47EE8EE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79F5-D27A-4190-B513-360860B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7782-05FA-4985-89E6-D431285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B237-4AC6-4405-87D4-F33F39D2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556C-2E68-48BE-ABAE-8AC7B02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5A2A4-4620-4C97-A2DC-768BEFA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AE97-09B2-4E7E-BC0B-ACBB67A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EA86-A421-4AF6-9D83-E87B583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DE7E-4B27-463B-8E1D-AB645315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9F4BA-E2E3-4E14-A5D8-732A652F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C3B4-DB43-4338-9C75-4C15C216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50A-633D-4902-9C8B-FF2BF566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426B-30FB-4816-9B9F-B9270D71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487-4027-4B85-8E8C-0DD3EBB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4A0-9026-485E-A672-44E803B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6FC-49C1-4F0B-9AC0-0227D20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33B-C62A-4EA1-A9E1-6A1267172848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39720"/>
            <a:ext cx="6175440" cy="4041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A2C-AE91-4014-8917-32E9B2EE6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DF0-292C-4707-A29E-6A5053009BB9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D97-3025-4F67-A800-D2ABDE0350C5}" type="slidenum">
              <a:rPr b="0" lang="en-US" sz="1400" spc="-1" strike="noStrike">
                <a:solidFill>
                  <a:srgbClr val="c3c586"/>
                </a:solidFill>
                <a:latin typeface="Calisto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A28-B161-40C4-B1B0-7720C26AEC2C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828800" y="8380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hungr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hungr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ie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le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icke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n we eat?  Can we Eat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5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938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752120" y="761760"/>
            <a:ext cx="6172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hirst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hirst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juice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k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, please, please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52120" y="7621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ired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ired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st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leep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, please, please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334280" y="82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052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8:52:02Z</dcterms:created>
  <dc:creator>San Diego City Schools</dc:creator>
  <dc:description/>
  <dc:language>en-US</dc:language>
  <cp:lastModifiedBy>City School</cp:lastModifiedBy>
  <dcterms:modified xsi:type="dcterms:W3CDTF">2011-05-12T20:17:59Z</dcterms:modified>
  <cp:revision>11</cp:revision>
  <dc:subject/>
  <dc:title> </dc:title>
</cp:coreProperties>
</file>